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3B6-99F4-4B3B-9A4D-B5564B35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2FF-CC97-4EAC-B64A-66A7FBF6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782-886F-42DF-9948-20DC5CCF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E0A-98B6-40A2-A71C-79CA3B1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C8F-7978-4185-8742-FA4E85FE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A68D-FC02-40CE-9741-9B49E94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D3F3-45ED-4D80-9E19-7046781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9E1-3E38-46D4-A56A-27ACC40E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7325-EEF1-4414-AA40-E9C90579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7F9-0FC2-4B39-8AB3-AAC7B1F8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0F8-F3B3-4001-8EB1-6BDEF9F7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B32-6846-4EC6-9A4A-8C02B49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9477-15AD-421D-AD3D-6DAE4EE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5A7E-93E3-482B-9673-721286E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D2A-3260-4613-979D-3362CB0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B63D-211B-408C-A440-23CB59DF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E373-5ED0-4F4C-99AE-D0AFB024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83E-96BB-4E34-A77D-D5382262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D61-DD45-4BD1-9146-AD15E031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258-DB8A-4E89-BDBD-6DCAAE1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EE4-1540-4027-B488-3549815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6DD-143F-4A14-9BB3-23E8B0F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A98-077B-488A-8170-553A7CA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BA4-25CD-4013-98BE-1EB908C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7A13-3855-42BD-BF2C-EDF0E557F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D52-ECC1-4A1D-8B15-A98DD60B1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2: Equations of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olation and extrapo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: estimate values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ion: estimate values that are not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3962520"/>
          <a:ext cx="3886200" cy="1726920"/>
        </p:xfrm>
        <a:graphic>
          <a:graphicData uri="http://schemas.openxmlformats.org/drawingml/2006/table">
            <a:tbl>
              <a:tblPr/>
              <a:tblGrid>
                <a:gridCol w="777240"/>
                <a:gridCol w="777240"/>
                <a:gridCol w="776880"/>
                <a:gridCol w="777600"/>
                <a:gridCol w="77724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k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is called the constant of proportionality or constant of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9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-4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-56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-7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,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point-slope and slope-intercept form for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intercept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s for horizontal, vertical, parallel, and perpendicular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interpolation and extra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rect variation to solv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ordered pair on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the following points (2, 3), (3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ope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slope and b=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(-1, 5), (-2, 7) in point-slope form and covert it to slope-intercep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-intercept and y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x-intercept, solve for x when for y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y-intercept, solve for y when x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486400" y="2362320"/>
          <a:ext cx="3314880" cy="34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362320"/>
                    <a:ext cx="331488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cept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= x intercept and b=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lowing into slope-intercept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rizontal and vertical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52880" y="2057400"/>
          <a:ext cx="353700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057400"/>
                    <a:ext cx="35370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: sam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: negative reciprocal slope (slopes multiply to be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3200400"/>
          <a:ext cx="3090960" cy="31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20040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perpendicular and parall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8:23:58Z</dcterms:created>
  <dc:creator>nuhs</dc:creator>
  <dc:description/>
  <dc:language>en-US</dc:language>
  <cp:lastModifiedBy>nuhs</cp:lastModifiedBy>
  <dcterms:modified xsi:type="dcterms:W3CDTF">2008-01-16T20:01:05Z</dcterms:modified>
  <cp:revision>3</cp:revision>
  <dc:subject/>
  <dc:title>2.2: Equations of Lines</dc:title>
</cp:coreProperties>
</file>